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8F3-DF75-422D-A150-7C3986DD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230-EE94-4265-B22A-154199A1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B576-282E-44A5-9AE7-1D59B12B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387-920C-47FA-936E-64792EA1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121B-2D32-4C97-A72D-8E7BC22C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A5D8-CA65-4CB6-9B05-BDA7DE87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4728-AFF9-43BE-9EFB-49E700C3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062E-B456-4B20-9839-9FE8AC14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292B-83BA-4545-989D-BF8FD2C6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5A51-D1B3-457A-B54D-9CC94118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665B-728D-4044-AB6A-76F7CD0C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3889-9F99-434C-B3E0-6214C20D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6ADF-0DD4-4C3A-A1CE-686DAB36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3CFD-80F4-48E3-934A-57334427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922C-921C-4BC5-978D-A5944817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B864-4585-4D35-9B4B-46BB400A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AA9D-CBE6-4B15-A803-33426986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65C-D97A-4AD5-A947-77C897C5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3F9-B7FD-495D-9127-37786691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3D6-7F07-4121-A729-595BAB53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683-C35F-4A24-BDA8-36F1A04F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A17-56C8-4ED9-82E8-0D91CC7F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1AEF-6C87-4D7B-9E8E-F721ADDD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1AA-9DA4-4EFA-B930-16BE5CE0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6C17-52B6-4571-8B7D-ADE41C98E9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46C9-A71B-426A-B54E-C9B385A3BFA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IDENTIFICARE NEVOI ELEVI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IU DE CAZ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SUL INTEL TE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trologie Traian Vuia </cp:lastModifiedBy>
  <dcterms:modified xsi:type="dcterms:W3CDTF">2010-03-31T20:21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